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355-7E5E-4C76-BB02-3C6D8F92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A97-26EB-4AD5-839F-E3F62CF3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314-D695-421D-B786-154D7B89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2C2-6298-4C0E-9AA7-1833B67A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3D48-0ED8-42A9-8551-23032902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6483-7C23-44AC-A17D-B40862E9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D85D-6092-4AA5-B8BE-2BD817C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A41-DF8C-4701-B6EA-67D4A78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8D5-1860-499B-9B19-7DA6361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545-AC9F-4FD2-840B-3F965861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246-94AA-4FA4-9F46-372238A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46C-4318-4AAB-8FA5-A63FAD26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D3D-A5D8-4917-AF51-D6587C70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781-AABB-45CB-8551-498C608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B574-3993-4345-9AC1-4EEA28B5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9F41-10A8-4ADD-8E89-37AAE1B4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8CC1-6227-46A0-A3E9-4A43391E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F8C-AEBE-4272-BE3B-1D6726D2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64E-59D0-4702-9BAC-8F464DF0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0BF-A538-4636-A469-C0532F2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A55-FD5F-4F10-94BB-3630011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0A7-5B1F-421A-ABEF-9804E08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347-DCD7-44ED-AEA3-F5B5800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187-9CFF-4628-A78B-97F0551F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CD0-C3FD-4971-93BA-4EB817EACA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41C-EA05-4A67-9D06-AFAC23BE03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ndyalleycats.com/wp-content/uploads/2009/11/basketball_2.jpg&amp;imgrefurl=http://www.indyalleycats.com/&amp;usg=__tVFu7r731cecLrKExJgDNvi7BqQ=&amp;h=768&amp;w=1024&amp;sz=111&amp;hl=en&amp;start=31&amp;itbs=1&amp;tbnid=JTWP0F9XwD00jM:&amp;tbnh=113&amp;tbnw=150&amp;prev=/images%3Fq%3Dbasketball%26start%3D20%26hl%3Den%26sa%3DN%26gbv%3D2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bealonghorn.utexas.edu/whyut/photos/images/gibson_daniel.jpg&amp;imgrefurl=http://bealonghorn.utexas.edu/whyut/photos/ss2.php%3Fg%3D1%26s%3D19&amp;usg=__ptg9oWsxSbdtsf6WaCHdRze4kHM=&amp;h=371&amp;w=475&amp;sz=46&amp;hl=en&amp;start=43&amp;itbs=1&amp;tbnid=xw0D_X0GHT6lyM:&amp;tbnh=101&amp;tbnw=129&amp;prev=/images%3Fq%3Dbasketball%26start%3D40%26hl%3Den%26sa%3DN%26gbv%3D2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ructures &amp; Strategies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Miss Dooga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0920" cy="242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37000"/>
            <a:ext cx="248436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093080" y="1916280"/>
            <a:ext cx="20509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Streng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tiring (than man-to-m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ers commit fewer fou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 Zone Weaknes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ulnerable to good outsid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 break can beat zone down court leading to disorganisation and con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nents have relatively free build up as pressure not applies until ball close to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efensive skills are not developed when a team rely on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Zone Def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265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u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SE ARE GENERALLY THE SMALLER / FASTER PLAY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RESPONSIBLE FOR BRINGING THE BALL UP THE COURT (GOOD BALL HANDLERS AND DECISION-MAK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Y PRESSURE THE SHO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Y ALSO STOP PENETRATION  OF THE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en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LL, STRONG PLAY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SHOOTING FROM CLOSE THE BAS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COLLECTING REBOUNDS AND BLOCKING SHO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orw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TRONG POWERFULL PLAY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DRIVING TO THE BASKET AND LONG RANG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ELP TO BLOCK OUT AND WIN REBOU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at Zone Defence is a defensive STRUC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how to answer a description of the Zone Def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 (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an activity of your choice describe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detai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 structure, strategy or composition you have used.  (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answer Part (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structure:  2-1-2 Zone Def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formation – where the players stand in the 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each player/position’s role and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ages of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rengths and weaknesses of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Defence 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0720" y="2619360"/>
            <a:ext cx="4000320" cy="2857680"/>
            <a:chOff x="2520720" y="2619360"/>
            <a:chExt cx="4000320" cy="2857680"/>
          </a:xfrm>
        </p:grpSpPr>
        <p:sp>
          <p:nvSpPr>
            <p:cNvPr id="109" name=""/>
            <p:cNvSpPr/>
            <p:nvPr/>
          </p:nvSpPr>
          <p:spPr>
            <a:xfrm>
              <a:off x="2520720" y="2619360"/>
              <a:ext cx="400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2320" y="2847960"/>
              <a:ext cx="1143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64000" y="2847960"/>
              <a:ext cx="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9160" y="3076560"/>
              <a:ext cx="2293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64160" y="2619360"/>
              <a:ext cx="22824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64160" y="3876840"/>
              <a:ext cx="378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6520" y="4219560"/>
              <a:ext cx="343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21000" y="513432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8200" y="5362920"/>
              <a:ext cx="1599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8400" y="513432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63480" y="2619360"/>
              <a:ext cx="22860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35600" y="387684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606640" y="4219560"/>
              <a:ext cx="343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9160" y="4334040"/>
              <a:ext cx="457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07080" y="3990960"/>
              <a:ext cx="1028160" cy="571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6520" y="3990960"/>
              <a:ext cx="1142640" cy="571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6520" y="3990960"/>
              <a:ext cx="26287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s and Responsibi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u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t pressure on the forwards of the opposing team when they are pa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nt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w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m a rebound triangle around basket. All three players have to be aggressive and good at jumping and blocking out attacking players from collecting the rebounds from shots to the bas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s of 2-1-2 Zone Def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r team loses possession shout zone and sprint back up court and take pos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efenders nearest the attacker in possession of the ball pressures the ball when attacker is in shooting rang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ak side players sag across to maintain the structure of the zone and covering vulnerable are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 out.  When a shot is attempted, the defenders must block out and rebou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airs 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 have 10 minutes to investigate the strengths and weaknesses of a Zone def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Streng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ents penetration of the key by always having someone in the space preventing a clear drive to the bas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effective against cutting and screening as players mark areas not m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s down the space inside the key and forces long rang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7:30:35Z</dcterms:created>
  <dc:creator>DooganS</dc:creator>
  <dc:description/>
  <dc:language>en-US</dc:language>
  <cp:lastModifiedBy>DooganS</cp:lastModifiedBy>
  <dcterms:modified xsi:type="dcterms:W3CDTF">2010-03-16T08:15:04Z</dcterms:modified>
  <cp:revision>7</cp:revision>
  <dc:subject/>
  <dc:title>Structures &amp; Strategies Lesson 1</dc:title>
</cp:coreProperties>
</file>